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72B-8825-483D-A64B-26EED824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F9B-573F-4471-8A5E-AB9C428D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EA0-D924-4B81-89AF-2651993C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31C2-3DD4-4C1A-ABD7-A9277691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779-63A2-42AF-BF96-E570C953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F5C-B4A8-4B87-A4F8-D24BC6E0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71B-53E1-4CEF-B846-728FBBBA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EF9-E12B-4DDC-A3AB-DA459600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F402-3FB4-48DC-9F08-90980A9C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C81-D539-4B06-B35F-6EEAD7D1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110D-336B-45D0-97E1-1BD3C6C1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2093-E4EF-49E0-AA40-8E19B187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A556-F047-4698-BF51-9F211304B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 You Cr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ley Far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-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176600">
            <a:off x="6324120" y="228240"/>
            <a:ext cx="24940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chilling an onion make it so that you don’t c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hink that it will, because the vapors in the onion are cooled dow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onions (one chilled, one unchill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w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/Pe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on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refrigera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ant Varia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ther or not they c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t Varia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led or Unch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hilled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d- Chopped for 35 seconds and eyes were bur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m- Chopped for 35 seconds and eyes were burning, at 52 seconds she was cry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sh- Chopped for 3 minutes and had no burning or cry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self- Instantly burned, cried at 45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 (continue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l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d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m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s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self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 to Mrs. Riffel for letting us have class time to work on our project. Also thanks to my mom for buying my materia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6:44:51Z</dcterms:created>
  <dc:creator>USD376</dc:creator>
  <dc:description/>
  <dc:language>en-US</dc:language>
  <cp:lastModifiedBy>USD376</cp:lastModifiedBy>
  <dcterms:modified xsi:type="dcterms:W3CDTF">2010-02-02T17:05:19Z</dcterms:modified>
  <cp:revision>6</cp:revision>
  <dc:subject/>
  <dc:title>Do You Cry?</dc:title>
</cp:coreProperties>
</file>